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B560-3524-4204-AE65-F1FED82A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0D94-A633-4801-B45F-524E5951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2461-B05F-4626-98BA-1A43ACFC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486-91EF-4742-B190-C2557A765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E792-4833-4295-AE23-535066682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4CD2-3A41-4A02-927A-4037F547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7EA2-0122-4C8F-A9BE-DAF539CBA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5970-586B-4A8D-B215-00D42F5CC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4790-DB4E-4F3A-A4A2-988D96BBF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95A0-C9AD-4ABA-86C9-CB5CD6F9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0B6D-BB08-44DA-AB8D-1D2605837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C92A-5EC8-4264-A6C7-6539ACE2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9F8A0-BBA0-42F3-9B8F-A73BD764BF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j8TyygWl9nQ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How is water like electricit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tends to flow from high places to low places, due to it’s potential energy or the effect of gravit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ricity acts in the same manner.  Electrons will flow from a place with a negative charge to a place with positive charges (Opposites attra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Electric Current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I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 net movement of electrons in a single direc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ctric current is measured in  amperes or amps (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mp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= 6250 million billion electrons or 6.24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ulom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flowing past a point every second [1 A = 1 C/S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creates the curr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water, a difference in height would make the water mo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electric current, you need a power source to provide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oltage differenc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 voltage differe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oltage difference (V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the difference in the voltage or the  electric potential energy.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ink of it like an electric press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battery, electrons are on one end, the negative end.  They want to travel to the positive end of the batter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tage is measured in volts (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 1 volt = 1 joule/coulomb 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makes the light bulb gl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1600200"/>
            <a:ext cx="857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water current, electric current can be slowed down by bumping into th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rt of the circuit which is inside of the light bul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thin wire called a filament.  This fila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low of electrons; The electrons bump into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lecules in the material and electrical energy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rted into thermal and then radiant energy (glow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ilament has a high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ist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resista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sista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R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the tendency for a material to oppose the flow of electrons.   Conductors have less resistance than insulators.  (Copper is an excellent conductor, it has a low resistan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is measured in Ohm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Ω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keeps the current flowing in a circu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voltage difference of the batt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makes a light bulb glo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istance of the filaments in the bu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is water like electric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has a current (I), requires a difference in energy to keep moving (V) and can be slowed down by objects in its path (R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ter Analogy Ani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youtube.com/watch?v=j8TyygWl9n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22:20:40Z</dcterms:created>
  <dc:creator>Dan Salazar</dc:creator>
  <dc:description/>
  <dc:language>en-US</dc:language>
  <cp:lastModifiedBy>Dan Salazar</cp:lastModifiedBy>
  <dcterms:modified xsi:type="dcterms:W3CDTF">2011-12-09T13:21:47Z</dcterms:modified>
  <cp:revision>5</cp:revision>
  <dc:subject/>
  <dc:title>Electric Current</dc:title>
</cp:coreProperties>
</file>